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CBC-4838-4AD6-A97D-9E602715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7B87-F64F-4D08-AD63-E661511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F6A7-BF85-4A72-8ADE-4ACF9EA5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779-2FC9-406C-9BB2-7A584E52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FD9-1FB9-4C88-8061-A04E5781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7DC-CDCB-4FA7-B789-D6330518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85F-3495-4E5F-A752-524562FD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7F9-8285-47B2-AF14-2E7E65A8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BC9B-71A9-480D-901C-A5AF9B71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3B05-B91C-4617-BB1E-922670D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5BF7-AB2B-463D-8EE0-A28E343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9CDF-6B6B-4E6F-B6F9-7FF4C84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E414-12EB-49F1-8CC5-C8CCB99F4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ideo/Building_Blocks_of_Matter_.flv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Video/Compounds.flv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Changing </a:t>
            </a:r>
            <a:r>
              <a:rPr b="0" lang="en-US" sz="6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t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ter can be changed two way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hysical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hys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hys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Arial"/>
              </a:rPr>
              <a:t>Chemic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Chemic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Matter is conserved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ype of atoms does not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Nothing is created or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Mass is conserved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mount of atoms cannot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Nothing is created or destr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2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To show conservation of mass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Balance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Make sure there are the same number of each type of atom in the products and in th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00"/>
                </a:solidFill>
                <a:uFillTx/>
                <a:latin typeface="Arial"/>
              </a:rPr>
              <a:t>Balanc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838080" y="2590920"/>
            <a:ext cx="746784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The equation for the burning of methane gas in oxygen 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CH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Arial"/>
                <a:ea typeface="ＭＳ Ｐゴシック"/>
              </a:rPr>
              <a:t>4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+ 2 O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Arial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→ CO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Arial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 + 2 H</a:t>
            </a:r>
            <a:r>
              <a:rPr b="0" lang="en-US" sz="3600" spc="-1" strike="noStrike" baseline="-25000">
                <a:solidFill>
                  <a:srgbClr val="ff9900"/>
                </a:solidFill>
                <a:latin typeface="Arial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259092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172200" y="4038480"/>
            <a:ext cx="53352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371600" y="541008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ub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hows #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 flipV="1">
            <a:off x="2819520" y="5105520"/>
            <a:ext cx="0" cy="38088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495680" y="5410080"/>
            <a:ext cx="403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Shows # of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6477120" y="5105520"/>
            <a:ext cx="0" cy="38088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9900"/>
                </a:solidFill>
                <a:uFillTx/>
                <a:latin typeface="Arial"/>
              </a:rPr>
              <a:t>Balancing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No subscript or coefficient is understood to b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+ 2 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→ C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+ 2 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+ 2 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→ C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+ 2 H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1 C    </a:t>
            </a:r>
            <a:r>
              <a:rPr b="0" lang="en-US" sz="36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  1 C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4 H    </a:t>
            </a:r>
            <a:r>
              <a:rPr b="0" lang="en-US" sz="36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  4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4 O    </a:t>
            </a:r>
            <a:r>
              <a:rPr b="0" lang="en-US" sz="36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     4 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ynthesis Reaction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 or more simple substances combine to form a more complex substanc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+B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ecomposi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 more complex substance breaks down into its more simple parts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AB </a:t>
            </a:r>
            <a:r>
              <a:rPr b="0" lang="en-US" sz="28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2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2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00"/>
                </a:solidFill>
                <a:uFillTx/>
                <a:latin typeface="Arial"/>
              </a:rPr>
              <a:t>Types of Chemical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placement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AB + CD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AD +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cc"/>
                </a:solidFill>
                <a:uFillTx/>
                <a:latin typeface="Arial"/>
              </a:rPr>
              <a:t>Phys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T CHANGE THE TYPE OF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Nothing new or different is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Could be a change in: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hange in st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ha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200400" y="3962520"/>
            <a:ext cx="304920" cy="121896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886200" y="4343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2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Examples of Phys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oi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ree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Dissol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Bre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Making a </a:t>
            </a:r>
            <a:r>
              <a:rPr b="1" lang="en-US" sz="3200" spc="-1" strike="noStrike" u="sng">
                <a:solidFill>
                  <a:srgbClr val="d60093"/>
                </a:solidFill>
                <a:uFillTx/>
                <a:latin typeface="Arial"/>
              </a:rPr>
              <a:t>mi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2 or more types of matter (substances) mix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Not in specific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Can be separated phys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toms have electrons arranged in energy levels or energy sh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Electrons in the last (outermost) shell are called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valence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Valence electrons let atoms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bond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with other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Ionic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Gaining or losing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80"/>
                </a:solidFill>
                <a:latin typeface="Arial"/>
              </a:rPr>
              <a:t>Covalent bo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Sharing elect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toms that bond form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May be the same type of atom o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Different types of a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Different types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Molecules can bond and </a:t>
            </a:r>
            <a:r>
              <a:rPr b="0" lang="ja-JP" sz="3200" spc="-1" strike="noStrike">
                <a:solidFill>
                  <a:srgbClr val="00808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unbond</a:t>
            </a:r>
            <a:r>
              <a:rPr b="0" lang="ja-JP" sz="3200" spc="-1" strike="noStrike">
                <a:solidFill>
                  <a:srgbClr val="00808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toms can re-arranged in different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aCO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 (1 atom Ca, 1 atom C, 3 atoms 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Add heat to re-arranged the ato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808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Evidence of a chemical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rmation of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Formation of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hange i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80"/>
                </a:solidFill>
                <a:latin typeface="Arial"/>
              </a:rPr>
              <a:t>Change i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End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Absorbs heat energy (gets c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Exother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Releases heat energy (gets 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Chemical reactions can be represented by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808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CaO + CO</a:t>
            </a:r>
            <a:r>
              <a:rPr b="0" lang="en-US" sz="3200" spc="-1" strike="noStrike" baseline="-25000">
                <a:solidFill>
                  <a:srgbClr val="00808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 rot="5400000">
            <a:off x="2971080" y="3581280"/>
            <a:ext cx="533520" cy="1143000"/>
          </a:xfrm>
          <a:custGeom>
            <a:avLst/>
            <a:gdLst>
              <a:gd name="textAreaLeft" fmla="*/ 0 w 533520"/>
              <a:gd name="textAreaRight" fmla="*/ 19260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 rot="5400000">
            <a:off x="5333400" y="3047760"/>
            <a:ext cx="533520" cy="2210040"/>
          </a:xfrm>
          <a:custGeom>
            <a:avLst/>
            <a:gdLst>
              <a:gd name="textAreaLeft" fmla="*/ 0 w 533520"/>
              <a:gd name="textAreaRight" fmla="*/ 192600 w 5335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362320" y="47242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Reactants             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Atoms are re-arranged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8080"/>
                </a:solidFill>
                <a:latin typeface="Arial"/>
              </a:rPr>
              <a:t> created or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Law of Conservation of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6009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Law of Conservation of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23:32:11Z</dcterms:created>
  <dc:creator>jeremy</dc:creator>
  <dc:description/>
  <dc:language>en-US</dc:language>
  <cp:lastModifiedBy>Meldon Jeremy</cp:lastModifiedBy>
  <dcterms:modified xsi:type="dcterms:W3CDTF">2011-11-12T08:35:32Z</dcterms:modified>
  <cp:revision>44</cp:revision>
  <dc:subject/>
  <dc:title>Changing Matter</dc:title>
</cp:coreProperties>
</file>